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2.wmf"/><Relationship Id="rId3" Type="http://schemas.openxmlformats.org/officeDocument/2006/relationships/slide" Target="slide12.xml"/><Relationship Id="rId4" Type="http://schemas.openxmlformats.org/officeDocument/2006/relationships/image" Target="../media/image3.wmf"/><Relationship Id="rId5" Type="http://schemas.openxmlformats.org/officeDocument/2006/relationships/slide" Target="slide16.xml"/><Relationship Id="rId6" Type="http://schemas.openxmlformats.org/officeDocument/2006/relationships/image" Target="../media/image4.wmf"/><Relationship Id="rId7" Type="http://schemas.openxmlformats.org/officeDocument/2006/relationships/slide" Target="slide14.xml"/><Relationship Id="rId8" Type="http://schemas.openxmlformats.org/officeDocument/2006/relationships/image" Target="../media/image5.wmf"/><Relationship Id="rId9" Type="http://schemas.openxmlformats.org/officeDocument/2006/relationships/slide" Target="slide10.xml"/><Relationship Id="rId10" Type="http://schemas.openxmlformats.org/officeDocument/2006/relationships/image" Target="../media/image6.wmf"/><Relationship Id="rId11" Type="http://schemas.openxmlformats.org/officeDocument/2006/relationships/slide" Target="slide18.xml"/><Relationship Id="rId12" Type="http://schemas.openxmlformats.org/officeDocument/2006/relationships/image" Target="../media/image7.wmf"/><Relationship Id="rId13" Type="http://schemas.openxmlformats.org/officeDocument/2006/relationships/slide" Target="slide20.xml"/><Relationship Id="rId14" Type="http://schemas.openxmlformats.org/officeDocument/2006/relationships/image" Target="../media/image8.wmf"/><Relationship Id="rId15" Type="http://schemas.openxmlformats.org/officeDocument/2006/relationships/slide" Target="slide6.xml"/><Relationship Id="rId16" Type="http://schemas.openxmlformats.org/officeDocument/2006/relationships/image" Target="../media/image9.wmf"/><Relationship Id="rId17" Type="http://schemas.openxmlformats.org/officeDocument/2006/relationships/slide" Target="slide4.xml"/><Relationship Id="rId18" Type="http://schemas.openxmlformats.org/officeDocument/2006/relationships/image" Target="../media/image10.wmf"/><Relationship Id="rId1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2.wmf"/><Relationship Id="rId3" Type="http://schemas.openxmlformats.org/officeDocument/2006/relationships/slide" Target="slide12.xml"/><Relationship Id="rId4" Type="http://schemas.openxmlformats.org/officeDocument/2006/relationships/image" Target="../media/image3.wmf"/><Relationship Id="rId5" Type="http://schemas.openxmlformats.org/officeDocument/2006/relationships/slide" Target="slide16.xml"/><Relationship Id="rId6" Type="http://schemas.openxmlformats.org/officeDocument/2006/relationships/image" Target="../media/image4.wmf"/><Relationship Id="rId7" Type="http://schemas.openxmlformats.org/officeDocument/2006/relationships/slide" Target="slide14.xml"/><Relationship Id="rId8" Type="http://schemas.openxmlformats.org/officeDocument/2006/relationships/image" Target="../media/image5.wmf"/><Relationship Id="rId9" Type="http://schemas.openxmlformats.org/officeDocument/2006/relationships/slide" Target="slide10.xml"/><Relationship Id="rId10" Type="http://schemas.openxmlformats.org/officeDocument/2006/relationships/image" Target="../media/image6.wmf"/><Relationship Id="rId11" Type="http://schemas.openxmlformats.org/officeDocument/2006/relationships/slide" Target="slide18.xml"/><Relationship Id="rId12" Type="http://schemas.openxmlformats.org/officeDocument/2006/relationships/image" Target="../media/image7.wmf"/><Relationship Id="rId13" Type="http://schemas.openxmlformats.org/officeDocument/2006/relationships/image" Target="../media/image8.wmf"/><Relationship Id="rId14" Type="http://schemas.openxmlformats.org/officeDocument/2006/relationships/image" Target="../media/image9.wmf"/><Relationship Id="rId15" Type="http://schemas.openxmlformats.org/officeDocument/2006/relationships/image" Target="../media/image10.wmf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2179440" y="1166760"/>
            <a:ext cx="47710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Arial"/>
              </a:rPr>
              <a:t>Welcome to...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"/>
          <p:cNvSpPr/>
          <p:nvPr/>
        </p:nvSpPr>
        <p:spPr>
          <a:xfrm>
            <a:off x="833040" y="5638680"/>
            <a:ext cx="78159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Arial"/>
              </a:rPr>
              <a:t>A Game of X’s and O’s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39" name=""/>
          <p:cNvSpPr txBox="1"/>
          <p:nvPr/>
        </p:nvSpPr>
        <p:spPr>
          <a:xfrm>
            <a:off x="1447920" y="3200400"/>
            <a:ext cx="61722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llywood Squar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" dur="500"/>
                                        <p:tgtEl>
                                          <p:spTgt spid="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7500"/>
                            </p:stCondLst>
                            <p:childTnLst>
                              <p:par>
                                <p:cTn id="1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935000" y="246240"/>
            <a:ext cx="4851720" cy="50781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60560" y="2747880"/>
            <a:ext cx="4791240" cy="2568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281400" y="484200"/>
            <a:ext cx="1747800" cy="24415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861160" y="246240"/>
            <a:ext cx="8953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38080" y="5546880"/>
            <a:ext cx="7639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was Orlick’s reasoning for getting revenge on Pip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75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905120" y="-152280"/>
            <a:ext cx="4851360" cy="50781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05120" y="2308320"/>
            <a:ext cx="4790880" cy="2568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3281400" y="484200"/>
            <a:ext cx="1747800" cy="24415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5861160" y="246240"/>
            <a:ext cx="8953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33520" y="5006880"/>
            <a:ext cx="8610480" cy="30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Imprint MT Shadow"/>
              </a:rPr>
              <a:t>He claimed that Pip came between him and his lo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Imprint MT Shadow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Imprint MT Shadow"/>
              </a:rPr>
              <a:t>How dared you come between me and a young woman I liked?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Imprint MT Shadow"/>
              </a:rPr>
              <a:t>-Orli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75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963800" y="246240"/>
            <a:ext cx="4780080" cy="504324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2359080" y="1143000"/>
            <a:ext cx="3960720" cy="22208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974960" y="2760840"/>
            <a:ext cx="4711680" cy="2498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889600" y="246240"/>
            <a:ext cx="80820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38080" y="5302080"/>
            <a:ext cx="763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Imprint MT Shadow"/>
              </a:rPr>
              <a:t>What does Pip promise Magwich after the arres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75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963800" y="246240"/>
            <a:ext cx="4780080" cy="504324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359080" y="1143000"/>
            <a:ext cx="3960720" cy="22208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1974960" y="2760840"/>
            <a:ext cx="4711680" cy="2498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889600" y="246240"/>
            <a:ext cx="80820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28720" y="5818320"/>
            <a:ext cx="763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 will never “stir from his side” and he will be as true to Magwitch as Magwitch has been to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75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990800" y="281160"/>
            <a:ext cx="4709880" cy="495612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3000240" y="557280"/>
            <a:ext cx="2543400" cy="27334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2036880" y="2711520"/>
            <a:ext cx="4655880" cy="2527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743440" y="281160"/>
            <a:ext cx="92880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14400" y="5302080"/>
            <a:ext cx="76392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Imprint MT Shadow"/>
              </a:rPr>
              <a:t>Why was Magwich trying to get to the German Steamer 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75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990800" y="281160"/>
            <a:ext cx="4709880" cy="495612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3000240" y="557280"/>
            <a:ext cx="2543400" cy="27334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2036880" y="2711520"/>
            <a:ext cx="4655880" cy="2527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743440" y="281160"/>
            <a:ext cx="92880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28720" y="5105520"/>
            <a:ext cx="7638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Imprint MT Shadow"/>
              </a:rPr>
              <a:t>So that he did not get caught for escaping prison.(to go back to where he is safe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75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023920" y="291960"/>
            <a:ext cx="4638960" cy="49215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2962440" y="387360"/>
            <a:ext cx="3350880" cy="47196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2025720" y="2668680"/>
            <a:ext cx="4640040" cy="2508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023920" y="291960"/>
            <a:ext cx="7891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28720" y="5029200"/>
            <a:ext cx="7638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Imprint MT Shadow"/>
              </a:rPr>
              <a:t>What is Magwich’s view of what happened to Compeyson in the rive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75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2023920" y="291960"/>
            <a:ext cx="4638960" cy="49215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2962440" y="387360"/>
            <a:ext cx="3350880" cy="47196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2025720" y="2668680"/>
            <a:ext cx="4640040" cy="2508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023920" y="291960"/>
            <a:ext cx="7891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28720" y="5181480"/>
            <a:ext cx="7638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Imprint MT Shadow"/>
              </a:rPr>
              <a:t>He drowned, but it was not Magwich’s faul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75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2052720" y="309600"/>
            <a:ext cx="4586040" cy="486720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043000" y="2689200"/>
            <a:ext cx="4557960" cy="2481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2544840" y="1476360"/>
            <a:ext cx="3767040" cy="12272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2052720" y="309600"/>
            <a:ext cx="8287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495144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Imprint MT Shadow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Imprint MT Shadow"/>
              </a:rPr>
              <a:t>What are two things that Pip thinks about when his life is threatened by Orlick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75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2052720" y="-228600"/>
            <a:ext cx="4586040" cy="486720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043000" y="2133720"/>
            <a:ext cx="4557960" cy="2481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544840" y="914400"/>
            <a:ext cx="3767040" cy="12272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2052720" y="309600"/>
            <a:ext cx="8287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276200" y="4724280"/>
            <a:ext cx="7639200" cy="33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Imprint MT Shadow"/>
              </a:rPr>
              <a:t>-not being able to apoligize to Biddy and Jo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Imprint MT Shadow"/>
              </a:rPr>
              <a:t>-Magwich would think Pip deserted hi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Imprint MT Shadow"/>
              </a:rPr>
              <a:t>-Herbert would doubt hi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40160" y="281952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75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1295280" y="0"/>
            <a:ext cx="70056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37160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65760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65760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65760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94360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360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4360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37160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95360" y="1147680"/>
            <a:ext cx="206856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518160" y="100080"/>
            <a:ext cx="1101960" cy="2109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833640" y="2741760"/>
            <a:ext cx="1768680" cy="9396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692520" y="1160640"/>
            <a:ext cx="2068560" cy="10569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965920" y="1143000"/>
            <a:ext cx="208764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06520" y="3413160"/>
            <a:ext cx="204480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803240" y="4689360"/>
            <a:ext cx="1541520" cy="20462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400800" y="2481120"/>
            <a:ext cx="1152360" cy="11764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662280" y="3425760"/>
            <a:ext cx="210348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64120" y="3408480"/>
            <a:ext cx="207036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413000" y="5678640"/>
            <a:ext cx="2044440" cy="10569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86040" y="5691240"/>
            <a:ext cx="208764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978520" y="5691240"/>
            <a:ext cx="207792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1963800" y="2462040"/>
            <a:ext cx="768240" cy="1025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3886200" y="5159520"/>
            <a:ext cx="1752480" cy="5378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784920" y="4648320"/>
            <a:ext cx="606600" cy="10634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4156200" y="71280"/>
            <a:ext cx="1216080" cy="1108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1752480" y="93600"/>
            <a:ext cx="1524240" cy="1069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37160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65760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94360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943360" y="2362320"/>
            <a:ext cx="5331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229360" y="2362320"/>
            <a:ext cx="5331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515360" y="2362320"/>
            <a:ext cx="5331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37160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65760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4360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514600" y="220176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Starring: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514600" y="212580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Dewey Cheatum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5146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Anita Hugginkiss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5146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Ivana Winn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5146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Seymour Money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514600" y="227808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Phil R. Up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5146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Craven Sumfood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5146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Lee V. Mediately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5146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Ima B. Utiful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5146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Sand E. Beaches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2114640" y="326880"/>
            <a:ext cx="4567320" cy="48675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100240" y="2706840"/>
            <a:ext cx="4537080" cy="2481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3916440" y="326880"/>
            <a:ext cx="1297080" cy="24256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2114640" y="326880"/>
            <a:ext cx="8413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28720" y="5410080"/>
            <a:ext cx="7638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ow badly was Pip hurt after his encounter with Orlick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75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2114640" y="326880"/>
            <a:ext cx="4567320" cy="48675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100240" y="2706840"/>
            <a:ext cx="4537080" cy="2481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3916440" y="326880"/>
            <a:ext cx="1297080" cy="242568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2114640" y="326880"/>
            <a:ext cx="8413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is arm was hur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75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685800" y="0"/>
            <a:ext cx="7647120" cy="6858000"/>
            <a:chOff x="685800" y="0"/>
            <a:chExt cx="7647120" cy="6858000"/>
          </a:xfrm>
        </p:grpSpPr>
        <p:sp>
          <p:nvSpPr>
            <p:cNvPr id="252" name=""/>
            <p:cNvSpPr txBox="1"/>
            <p:nvPr/>
          </p:nvSpPr>
          <p:spPr>
            <a:xfrm>
              <a:off x="685800" y="114300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00"/>
                      </a:gs>
                      <a:gs pos="50000">
                        <a:srgbClr val="ff9900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53" name=""/>
            <p:cNvSpPr txBox="1"/>
            <p:nvPr/>
          </p:nvSpPr>
          <p:spPr>
            <a:xfrm>
              <a:off x="2438280" y="1371600"/>
              <a:ext cx="48744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ff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ff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54" name=""/>
            <p:cNvSpPr txBox="1"/>
            <p:nvPr/>
          </p:nvSpPr>
          <p:spPr>
            <a:xfrm>
              <a:off x="4419720" y="0"/>
              <a:ext cx="91440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3333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55" name=""/>
            <p:cNvSpPr txBox="1"/>
            <p:nvPr/>
          </p:nvSpPr>
          <p:spPr>
            <a:xfrm>
              <a:off x="1828800" y="228600"/>
              <a:ext cx="45720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66ff"/>
                      </a:gs>
                      <a:gs pos="50000">
                        <a:srgbClr val="ff3300"/>
                      </a:gs>
                      <a:gs pos="100000">
                        <a:srgbClr val="ff66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ff3300"/>
                    </a:gs>
                    <a:gs pos="100000">
                      <a:srgbClr val="ff66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56" name=""/>
            <p:cNvSpPr txBox="1"/>
            <p:nvPr/>
          </p:nvSpPr>
          <p:spPr>
            <a:xfrm>
              <a:off x="4800600" y="480060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ff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ff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57" name=""/>
            <p:cNvSpPr txBox="1"/>
            <p:nvPr/>
          </p:nvSpPr>
          <p:spPr>
            <a:xfrm>
              <a:off x="5943600" y="6324480"/>
              <a:ext cx="48744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00"/>
                      </a:gs>
                      <a:gs pos="50000">
                        <a:srgbClr val="ff9900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58" name=""/>
            <p:cNvSpPr txBox="1"/>
            <p:nvPr/>
          </p:nvSpPr>
          <p:spPr>
            <a:xfrm>
              <a:off x="6400800" y="4114800"/>
              <a:ext cx="91440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66ff"/>
                      </a:gs>
                      <a:gs pos="50000">
                        <a:srgbClr val="ff3300"/>
                      </a:gs>
                      <a:gs pos="100000">
                        <a:srgbClr val="ff66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ff3300"/>
                    </a:gs>
                    <a:gs pos="100000">
                      <a:srgbClr val="ff66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59" name=""/>
            <p:cNvSpPr txBox="1"/>
            <p:nvPr/>
          </p:nvSpPr>
          <p:spPr>
            <a:xfrm>
              <a:off x="4343400" y="6324480"/>
              <a:ext cx="45720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3333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0" name=""/>
            <p:cNvSpPr txBox="1"/>
            <p:nvPr/>
          </p:nvSpPr>
          <p:spPr>
            <a:xfrm>
              <a:off x="7620120" y="579132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00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00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1" name=""/>
            <p:cNvSpPr txBox="1"/>
            <p:nvPr/>
          </p:nvSpPr>
          <p:spPr>
            <a:xfrm>
              <a:off x="3048120" y="5410080"/>
              <a:ext cx="712800" cy="779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90000"/>
                      </a:gs>
                      <a:gs pos="50000">
                        <a:srgbClr val="ff9900"/>
                      </a:gs>
                      <a:gs pos="100000">
                        <a:srgbClr val="990000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00"/>
                    </a:gs>
                    <a:gs pos="100000">
                      <a:srgbClr val="99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2" name=""/>
            <p:cNvSpPr txBox="1"/>
            <p:nvPr/>
          </p:nvSpPr>
          <p:spPr>
            <a:xfrm>
              <a:off x="6248520" y="1219320"/>
              <a:ext cx="407880" cy="474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90000"/>
                      </a:gs>
                      <a:gs pos="50000">
                        <a:srgbClr val="ff9900"/>
                      </a:gs>
                      <a:gs pos="100000">
                        <a:srgbClr val="990000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00"/>
                    </a:gs>
                    <a:gs pos="100000">
                      <a:srgbClr val="99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3" name=""/>
            <p:cNvSpPr txBox="1"/>
            <p:nvPr/>
          </p:nvSpPr>
          <p:spPr>
            <a:xfrm>
              <a:off x="7467480" y="380880"/>
              <a:ext cx="86544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00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00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sp>
        <p:nvSpPr>
          <p:cNvPr id="264" name="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cc99"/>
                    </a:gs>
                    <a:gs pos="100000">
                      <a:srgbClr val="ff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cc99"/>
                  </a:gs>
                  <a:gs pos="100000">
                    <a:srgbClr val="ff66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500"/>
                            </p:stCondLst>
                            <p:childTnLst>
                              <p:par>
                                <p:cTn id="273" nodeType="afterEffect" fill="hold" presetClass="entr" presetID="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685800" y="0"/>
            <a:ext cx="7647120" cy="6858000"/>
            <a:chOff x="685800" y="0"/>
            <a:chExt cx="7647120" cy="6858000"/>
          </a:xfrm>
        </p:grpSpPr>
        <p:sp>
          <p:nvSpPr>
            <p:cNvPr id="268" name=""/>
            <p:cNvSpPr txBox="1"/>
            <p:nvPr/>
          </p:nvSpPr>
          <p:spPr>
            <a:xfrm>
              <a:off x="685800" y="114300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00"/>
                      </a:gs>
                      <a:gs pos="50000">
                        <a:srgbClr val="ff9900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9" name=""/>
            <p:cNvSpPr txBox="1"/>
            <p:nvPr/>
          </p:nvSpPr>
          <p:spPr>
            <a:xfrm>
              <a:off x="2438280" y="1371600"/>
              <a:ext cx="48744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ff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ff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0" name=""/>
            <p:cNvSpPr txBox="1"/>
            <p:nvPr/>
          </p:nvSpPr>
          <p:spPr>
            <a:xfrm>
              <a:off x="4419720" y="0"/>
              <a:ext cx="91440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3333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1" name=""/>
            <p:cNvSpPr txBox="1"/>
            <p:nvPr/>
          </p:nvSpPr>
          <p:spPr>
            <a:xfrm>
              <a:off x="1828800" y="228600"/>
              <a:ext cx="45720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66ff"/>
                      </a:gs>
                      <a:gs pos="50000">
                        <a:srgbClr val="ff3300"/>
                      </a:gs>
                      <a:gs pos="100000">
                        <a:srgbClr val="ff66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ff3300"/>
                    </a:gs>
                    <a:gs pos="100000">
                      <a:srgbClr val="ff66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2" name=""/>
            <p:cNvSpPr txBox="1"/>
            <p:nvPr/>
          </p:nvSpPr>
          <p:spPr>
            <a:xfrm>
              <a:off x="4800600" y="480060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ff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ff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3" name=""/>
            <p:cNvSpPr txBox="1"/>
            <p:nvPr/>
          </p:nvSpPr>
          <p:spPr>
            <a:xfrm>
              <a:off x="5943600" y="6324480"/>
              <a:ext cx="48744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00"/>
                      </a:gs>
                      <a:gs pos="50000">
                        <a:srgbClr val="ff9900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4" name=""/>
            <p:cNvSpPr txBox="1"/>
            <p:nvPr/>
          </p:nvSpPr>
          <p:spPr>
            <a:xfrm>
              <a:off x="6400800" y="4114800"/>
              <a:ext cx="91440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66ff"/>
                      </a:gs>
                      <a:gs pos="50000">
                        <a:srgbClr val="ff3300"/>
                      </a:gs>
                      <a:gs pos="100000">
                        <a:srgbClr val="ff66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ff3300"/>
                    </a:gs>
                    <a:gs pos="100000">
                      <a:srgbClr val="ff66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5" name=""/>
            <p:cNvSpPr txBox="1"/>
            <p:nvPr/>
          </p:nvSpPr>
          <p:spPr>
            <a:xfrm>
              <a:off x="4343400" y="6324480"/>
              <a:ext cx="45720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3333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6" name=""/>
            <p:cNvSpPr txBox="1"/>
            <p:nvPr/>
          </p:nvSpPr>
          <p:spPr>
            <a:xfrm>
              <a:off x="7620120" y="579132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00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00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7" name=""/>
            <p:cNvSpPr txBox="1"/>
            <p:nvPr/>
          </p:nvSpPr>
          <p:spPr>
            <a:xfrm>
              <a:off x="3048120" y="5410080"/>
              <a:ext cx="712800" cy="779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90000"/>
                      </a:gs>
                      <a:gs pos="50000">
                        <a:srgbClr val="ff9900"/>
                      </a:gs>
                      <a:gs pos="100000">
                        <a:srgbClr val="990000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00"/>
                    </a:gs>
                    <a:gs pos="100000">
                      <a:srgbClr val="99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8" name=""/>
            <p:cNvSpPr txBox="1"/>
            <p:nvPr/>
          </p:nvSpPr>
          <p:spPr>
            <a:xfrm>
              <a:off x="6248520" y="1219320"/>
              <a:ext cx="407880" cy="474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90000"/>
                      </a:gs>
                      <a:gs pos="50000">
                        <a:srgbClr val="ff9900"/>
                      </a:gs>
                      <a:gs pos="100000">
                        <a:srgbClr val="990000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00"/>
                    </a:gs>
                    <a:gs pos="100000">
                      <a:srgbClr val="99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9" name=""/>
            <p:cNvSpPr txBox="1"/>
            <p:nvPr/>
          </p:nvSpPr>
          <p:spPr>
            <a:xfrm>
              <a:off x="7467480" y="380880"/>
              <a:ext cx="86544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00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00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sp>
        <p:nvSpPr>
          <p:cNvPr id="280" name="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cc99"/>
                    </a:gs>
                    <a:gs pos="100000">
                      <a:srgbClr val="ff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cc99"/>
                  </a:gs>
                  <a:gs pos="100000">
                    <a:srgbClr val="ff66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500"/>
                            </p:stCondLst>
                            <p:childTnLst>
                              <p:par>
                                <p:cTn id="302" nodeType="afterEffect" fill="hold" presetClass="entr" presetID="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80880" y="762120"/>
            <a:ext cx="1219320" cy="152388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133720" y="0"/>
            <a:ext cx="70056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0968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0968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9568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49568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8168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78168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0968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33440" y="1147680"/>
            <a:ext cx="206856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56600" y="100080"/>
            <a:ext cx="1101600" cy="21096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672080" y="2741760"/>
            <a:ext cx="1768320" cy="9396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530600" y="1160640"/>
            <a:ext cx="2068560" cy="10569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04000" y="1143000"/>
            <a:ext cx="208764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44600" y="3413160"/>
            <a:ext cx="204480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641680" y="4689360"/>
            <a:ext cx="1541520" cy="20462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238880" y="2481120"/>
            <a:ext cx="1152720" cy="11764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500720" y="3425760"/>
            <a:ext cx="210312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02560" y="3408480"/>
            <a:ext cx="207000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51080" y="5678640"/>
            <a:ext cx="2044800" cy="10569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24480" y="5691240"/>
            <a:ext cx="208728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16600" y="5691240"/>
            <a:ext cx="207828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801880" y="2462040"/>
            <a:ext cx="768240" cy="1025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724280" y="5159520"/>
            <a:ext cx="1752840" cy="5378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13"/>
          <a:stretch/>
        </p:blipFill>
        <p:spPr>
          <a:xfrm>
            <a:off x="7623000" y="4648320"/>
            <a:ext cx="606600" cy="10634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14"/>
          <a:stretch/>
        </p:blipFill>
        <p:spPr>
          <a:xfrm>
            <a:off x="4994280" y="71280"/>
            <a:ext cx="1216080" cy="11080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5"/>
          <a:stretch/>
        </p:blipFill>
        <p:spPr>
          <a:xfrm>
            <a:off x="2590920" y="93600"/>
            <a:ext cx="1523880" cy="1069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20968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9568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78168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81440" y="2362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67440" y="2362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353440" y="2362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0968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568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1371600"/>
            <a:ext cx="1219320" cy="914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320" y="289080"/>
            <a:ext cx="1981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Scoreboar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814320"/>
            <a:ext cx="5331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0880" y="2971800"/>
            <a:ext cx="1219320" cy="152388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3581280"/>
            <a:ext cx="1219320" cy="914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3024360"/>
            <a:ext cx="5331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5029200"/>
            <a:ext cx="1524240" cy="76212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Here 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 W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5867280"/>
            <a:ext cx="1524240" cy="76212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Here 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 W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881360" y="139680"/>
            <a:ext cx="5010120" cy="528948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776680" y="235080"/>
            <a:ext cx="3578040" cy="26524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884240" y="2795760"/>
            <a:ext cx="4997520" cy="26222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81360" y="139680"/>
            <a:ext cx="77616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38080" y="5546880"/>
            <a:ext cx="7639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are two things that Orlick told Pip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75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881360" y="139680"/>
            <a:ext cx="5010120" cy="528948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776680" y="235080"/>
            <a:ext cx="3578040" cy="26524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884240" y="2795760"/>
            <a:ext cx="4997520" cy="26222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81360" y="139680"/>
            <a:ext cx="77616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14400" y="5546880"/>
            <a:ext cx="7639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e killed Mrs.Joe, he was going to kill Pip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75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893960" y="206280"/>
            <a:ext cx="4991040" cy="521964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887480" y="2859120"/>
            <a:ext cx="4944960" cy="2585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060720" y="195120"/>
            <a:ext cx="2843280" cy="27100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893960" y="206280"/>
            <a:ext cx="82548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38080" y="5546880"/>
            <a:ext cx="7639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ich three people saved Pip from Orlick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75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893960" y="206280"/>
            <a:ext cx="4991040" cy="521964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887480" y="2859120"/>
            <a:ext cx="4944960" cy="2585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060720" y="195120"/>
            <a:ext cx="2843280" cy="27100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893960" y="206280"/>
            <a:ext cx="82548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erbert, Trabbs son, and Starto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75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886040" y="217440"/>
            <a:ext cx="4956120" cy="5202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220920" y="276120"/>
            <a:ext cx="2559240" cy="51436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903320" y="2819520"/>
            <a:ext cx="4883400" cy="25765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886040" y="217440"/>
            <a:ext cx="81756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5546880"/>
            <a:ext cx="7639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is the name of the river they traveled o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75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886040" y="217440"/>
            <a:ext cx="4956120" cy="5202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220920" y="276120"/>
            <a:ext cx="2559240" cy="51436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903320" y="2819520"/>
            <a:ext cx="4883400" cy="25765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886040" y="217440"/>
            <a:ext cx="81756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e Thames Ri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75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8T18:50:51Z</dcterms:created>
  <dc:creator>Mark E. Damon</dc:creator>
  <dc:description/>
  <dc:language>en-US</dc:language>
  <cp:lastModifiedBy>lynn</cp:lastModifiedBy>
  <dcterms:modified xsi:type="dcterms:W3CDTF">2009-03-16T22:17:34Z</dcterms:modified>
  <cp:revision>28</cp:revision>
  <dc:subject/>
  <dc:title>No Slide Title</dc:title>
</cp:coreProperties>
</file>